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BE23-FF72-4D9D-AC17-3DC747D9D9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625-5D2B-4AB8-B828-561AA9CA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307-EB88-403B-A7CF-EC176711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659-B8F0-43C5-9E51-127921E1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04E-A34D-414C-9160-BA665B34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A9D-4B74-490D-88FB-728DE06A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AEF-DC09-4D43-9E7D-E57E9FDC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CF3-FED4-4815-9B46-BF3BD7E1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44C-5488-4F68-A27A-E8958CCA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1B7-E590-4825-981B-CBCA5641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120-3745-4C70-AA0F-63C3B195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521-21DD-4993-B74D-CCD7B464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2B8-BD32-46B8-8FF0-74BBAA61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6FDC-E41F-4572-BC4C-99019E3F205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84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RomaK</cp:lastModifiedBy>
  <dcterms:modified xsi:type="dcterms:W3CDTF">2015-09-04T09:29:45Z</dcterms:modified>
  <cp:revision>6</cp:revision>
  <dc:subject>How did Life in Egypt affect Medicine?</dc:subject>
  <dc:title>How did Life in Egypt affect Medicine?</dc:title>
</cp:coreProperties>
</file>